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EC91-586C-481A-8E4C-EED6AA79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F12-503C-41FF-A56C-B8036D8B9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4FF-CF77-4CC3-9138-357D620C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302-9C33-4FDF-927F-9A7D56D5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B3F6-562C-43C2-A84D-399A1DDB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6AF-854A-4E59-B236-A02B9045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442-1755-4922-819E-BD19BFC4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9F5-F269-4C6A-B359-F905288B5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310-8B0B-40C4-A30E-D350F7B2A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CBA-02C6-48BC-B5D8-98192BCBB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880-CDE4-49A8-B9E9-F6D267B9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6175-2D9A-4ABD-B4AB-6B1A0CAD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0AB-3F16-49C2-9007-F49B1D381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C8E-9D4D-4E5E-85AE-F2D8A2E3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7BF-F8CA-471A-AA6C-A8877B1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90B-81DD-4EDD-8331-D5184930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FF7-CEE8-4D18-AE4D-25EFCB91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373-13E1-45EC-92A4-CE077587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EE0-682D-4EE0-92AE-92E07474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36A-7BDD-4D9D-B868-FE003AC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AB5-B503-42FF-A3D2-7EAF60DF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010-DAFD-441C-9ED4-18FBE264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B24-6443-487D-9699-F8C5029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428-8008-41FB-9CCF-3BFCDA0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4FC-76C5-4792-9773-4AF82B6C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6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1" marL="668160" indent="-287280">
              <a:spcBef>
                <a:spcPts val="1250"/>
              </a:spcBef>
              <a:buClr>
                <a:srgbClr val="0065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2" marL="1049400" indent="-190440">
              <a:spcBef>
                <a:spcPts val="1250"/>
              </a:spcBef>
              <a:buClr>
                <a:srgbClr val="006501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3" marL="1430280" indent="-190440">
              <a:spcBef>
                <a:spcPts val="1250"/>
              </a:spcBef>
              <a:buClr>
                <a:srgbClr val="0065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4" marL="1811160" indent="-190440">
              <a:spcBef>
                <a:spcPts val="1250"/>
              </a:spcBef>
              <a:buClr>
                <a:srgbClr val="00650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5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6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955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F9EA-06B0-4FB7-BE30-FA8C6440DC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197480" cy="106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5251320"/>
            <a:ext cx="7197480" cy="5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50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&lt;date/time&gt;</a:t>
            </a: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Thursday 16th Sept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76520"/>
            <a:ext cx="719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ecti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9718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ite Protection Officer</a:t>
            </a:r>
            <a:br>
              <a:rPr sz="3600"/>
            </a:b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221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election Eve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AFETY BRIEF FOR AERIAL TOWER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440" y="2293920"/>
            <a:ext cx="59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rounds and landings of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800" y="2997360"/>
            <a:ext cx="725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, do not lean over handrails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46530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800" y="3949560"/>
            <a:ext cx="70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limb the ladder at a comfortable pace, no r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6214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2040" y="17928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000" y="144792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120" y="2104920"/>
            <a:ext cx="65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quired to carry a person of similar physical st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00" y="2590920"/>
            <a:ext cx="71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Not a timed event. Do not run. Walk in a safe manner. Maintain your balance. Be mindful of colleague at all ti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763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00" y="3733920"/>
            <a:ext cx="695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00" y="5105520"/>
            <a:ext cx="716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2400" y="1384200"/>
            <a:ext cx="87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B.A TRAINING POD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2943360"/>
            <a:ext cx="59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wearer of B.A requires assistance, cal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 SCU (UK) AP member of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0" y="3781440"/>
            <a:ext cx="54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hanges of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changes of level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eps into B.A p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Open manholes (feel for open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0" y="2133720"/>
            <a:ext cx="82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.A procedure Tech Bulletin 1/97 will be adhered to as a ‘safe system of wor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45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518148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PLANT A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320" y="2276640"/>
            <a:ext cx="43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steps and la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" y="2943360"/>
            <a:ext cx="528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436716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a safety officer / Instructor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520" y="3664080"/>
            <a:ext cx="49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o not run up or down stairs, brisk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3341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1800" y="1447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LARIFICATION OF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400536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7016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ealth and fi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s everyone fit and well (positive response required by all participant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Arial Black"/>
              </a:rPr>
              <a:t>Staff Int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70828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645000"/>
            <a:ext cx="8388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HR Advisor         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 Black"/>
              </a:rPr>
              <a:t>SPO Selection Event Programm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28280"/>
            <a:ext cx="838224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15     Site Induction – Visitors Induction Centre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30     Briefing re. programme for the da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    Physical test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Health &amp; Safety risk assessment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refreshment break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45     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30     Physical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550     View AP Promotional video &amp; VMDS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D Rom (*optional)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00     Debrief day’s events / what next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15     Close.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– 0915      Change in to fire kit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15 – 1030      Hose running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030 – 1100      Ladder Extension 10.5m  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00 – 1145      Ascend &amp; descend aerial tower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00 – 1300      * BA training pod crawl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00 –1445         Casualty Car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45 – 1545      * Ascend &amp; descend Process Plant in BA (Heat &amp; Humidity)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* Breaks built in to programme / times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ma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va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916280"/>
          <a:ext cx="7643520" cy="2939760"/>
        </p:xfrm>
        <a:graphic>
          <a:graphicData uri="http://schemas.openxmlformats.org/drawingml/2006/table">
            <a:tbl>
              <a:tblPr/>
              <a:tblGrid>
                <a:gridCol w="3951000"/>
                <a:gridCol w="3692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600" y="2133720"/>
            <a:ext cx="86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Manu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comfortable pace with Kinetic handling  carried out at all time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. Use the large muscle groups whilst lifting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680" y="3247920"/>
            <a:ext cx="85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s, trips and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reasonable pace, quick walk (observe surroun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46800" y="4390920"/>
            <a:ext cx="50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uts, Abr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 to be worn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62360" y="5200560"/>
            <a:ext cx="58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No Jewellery To Be Worn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ings / Neck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W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iercing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133720"/>
            <a:ext cx="8076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ersonal Protective Equipment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ull fire kit (in operational condition) to be worn at all tim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Hel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tu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legg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boots/safety footwear (good 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worn for all practical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can be issued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6600" y="542124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port all injuries to SCU (UK) AP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6160" y="153180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HOSE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6160" y="2440080"/>
            <a:ext cx="60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971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hose whilst running out Undertake hose running with due care for others, a time limit is set, however carry out task with safety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83160"/>
            <a:ext cx="772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5944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2040" y="0"/>
            <a:ext cx="55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6080" y="153180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LADD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" y="2247840"/>
            <a:ext cx="67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to be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9888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ladder extensio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80" y="4695840"/>
            <a:ext cx="672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230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2040" y="10620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960" y="3908520"/>
            <a:ext cx="65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m grip of extension line required, using upper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0:33:46Z</dcterms:created>
  <dc:creator>Simon Houliston</dc:creator>
  <dc:description/>
  <dc:language>en-US</dc:language>
  <cp:lastModifiedBy>gpidgeon</cp:lastModifiedBy>
  <cp:lastPrinted>2004-11-25T16:42:46Z</cp:lastPrinted>
  <dcterms:modified xsi:type="dcterms:W3CDTF">2007-06-14T15:29:16Z</dcterms:modified>
  <cp:revision>81</cp:revision>
  <dc:subject/>
  <dc:title>PowerPoint Presentation</dc:title>
</cp:coreProperties>
</file>